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5653-4188-4549-AEF5-6DFB423FF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D546-AA55-4CBB-BD34-B8658BBB8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B0D9-EB80-4867-BAEC-67DF21640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72010-4BAB-44DA-BAB9-842E4D10C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EC6E9-862C-4E4A-81BC-986C7475A0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7CB8-FF41-431A-B1DB-A6F9E70DA3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EBD3-290C-4BCD-887E-9D76BD036E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1262B-0FB6-4E42-A525-5A083ED9A2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7C3FA-5C93-4830-9B49-2D8B166D97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595E-B079-4474-AD29-53DB596B7A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95F54-B5C6-4CB4-AC47-F733F8434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0EE8-3890-404E-AF37-755DEFB29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C819-ECC1-4A87-8FCB-94963CA657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6A2F-838D-4EBC-A693-6A3227EDB1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C361-B597-435D-BE06-91D6099487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BAAB-1715-42FD-AD59-8E249E9642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B0F8-2E3F-4F44-94E7-C2859D90F3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7CD-8C6D-4197-8955-C3568E05A9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72D-65A3-4D97-8A23-68E0861A0D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AB9-C641-45CB-82FB-909A8594E0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664-3769-40A5-B5BB-19EF4197D53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67B-A480-438F-A711-57922AB083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E2DD-C1D2-4C80-BEED-6232791412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422-867B-46B8-AFBD-CC76546CDA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A1B-0982-4B91-9A01-6238FFB6B6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A991-49C7-420C-897A-54A5472D07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514-DFCC-4F37-91D1-B22656C4F8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4BE-E4D3-4190-9161-2D23909B4F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2C8-2158-44A8-882A-2B6FC2A012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347-CA11-4FE3-9651-34EF8490CE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DC5E0-C0B5-4B03-8C35-F52AE07AA3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A8650-0055-4152-A3A8-DAFC3C156E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7158F-5A14-4045-972C-36DA10EB3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9A9A-91A7-4C0B-9060-8FFDB4AEDE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C2C0C-287E-4D69-8901-BC16976C9FF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72001-034D-4DE6-94B9-F15B036779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64F98-4A75-4EE5-B636-E5201EED77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E4DE9-F6FD-45E1-8C1D-E73DFE5CF6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5DEA7-2087-4C7C-BCFF-C44F8A0618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229B8-770A-4435-92B1-4D8215E97B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7CFFB-6FFB-45B3-A0E4-1B55EADEC1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87B59-F69E-4DA1-A0F8-1C91571EB1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581C6-ACF1-461B-B941-52CE4A36B1F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BDA8F-1A92-49AF-9344-85629FC62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986A-D175-4426-B4FB-31EF5EF78E9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9884D-E6A5-42B8-9126-C04EB554DEF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35AC7-00B2-4504-8FF5-09ADB7FF07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8B276-8ED8-474A-9E4F-6FEF598E91B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36E32-2F57-40DD-9BB3-EE230F96B73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2EF64-3D07-43AD-8D05-985F8749B5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D6E32-5C33-46E2-905B-BD4471E59A2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CEBEB-BFF5-4823-AAED-1B16D800115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8E83E-A7AD-4798-84C8-BEE7B2136EF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D58CC-CB36-46FB-800D-1CE84346F90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DA6C5-7A2A-4142-97D2-C3B11A4A7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90E4-2895-4B3D-914C-7FE30AAFBB2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A14D1-F809-4269-9C4F-3DC63D311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B36B-C7CB-4991-96FF-99913D214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E91B-26CC-42DB-A8B5-0AEB5D745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023A-C00B-4053-9049-231215F5C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528480" indent="-28548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928800" indent="-22860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386000" indent="-228600">
              <a:spcBef>
                <a:spcPts val="11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843200" indent="-228600">
              <a:spcBef>
                <a:spcPts val="11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843200" indent="-228600">
              <a:spcBef>
                <a:spcPts val="1100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843200" indent="-228600">
              <a:spcBef>
                <a:spcPts val="1100"/>
              </a:spcBef>
              <a:buClr>
                <a:srgbClr val="0e2fa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e2fad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1DCF-3842-4E7C-BB7C-C9AB00E68C28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500"/>
            </a:gs>
            <a:gs pos="100000">
              <a:srgbClr val="6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39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579600" indent="-28584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979560" indent="-228600">
              <a:spcBef>
                <a:spcPts val="1100"/>
              </a:spcBef>
              <a:buClr>
                <a:srgbClr val="8080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1893960" indent="-228600">
              <a:spcBef>
                <a:spcPts val="1100"/>
              </a:spcBef>
              <a:buClr>
                <a:srgbClr val="cca5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5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6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666440" y="9232920"/>
            <a:ext cx="334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2759-AC44-4AD3-8662-2B907B6F9EB1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500"/>
            </a:gs>
            <a:gs pos="100000">
              <a:srgbClr val="6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39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579600" indent="-28584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979560" indent="-228600">
              <a:spcBef>
                <a:spcPts val="1100"/>
              </a:spcBef>
              <a:buClr>
                <a:srgbClr val="8080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1893960" indent="-228600">
              <a:spcBef>
                <a:spcPts val="1100"/>
              </a:spcBef>
              <a:buClr>
                <a:srgbClr val="cca5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5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6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0666440" y="9232920"/>
            <a:ext cx="334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76C5-D8A6-4717-A090-BE6661A73CD7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500"/>
            </a:gs>
            <a:gs pos="100000">
              <a:srgbClr val="6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39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579600" indent="-28584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979560" indent="-228600">
              <a:spcBef>
                <a:spcPts val="1100"/>
              </a:spcBef>
              <a:buClr>
                <a:srgbClr val="8080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1893960" indent="-228600">
              <a:spcBef>
                <a:spcPts val="1100"/>
              </a:spcBef>
              <a:buClr>
                <a:srgbClr val="cca5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5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6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0666440" y="9232920"/>
            <a:ext cx="334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2E6C-3682-4AE7-9164-96DB5762B534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500"/>
            </a:gs>
            <a:gs pos="100000">
              <a:srgbClr val="6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139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579600" indent="-28584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2" marL="979560" indent="-228600">
              <a:spcBef>
                <a:spcPts val="1100"/>
              </a:spcBef>
              <a:buClr>
                <a:srgbClr val="8080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3" marL="14367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4" marL="1893960" indent="-228600">
              <a:spcBef>
                <a:spcPts val="1100"/>
              </a:spcBef>
              <a:buClr>
                <a:srgbClr val="cca500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5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6" marL="1893960" indent="-228600">
              <a:spcBef>
                <a:spcPts val="1100"/>
              </a:spcBef>
              <a:buClr>
                <a:srgbClr val="ffffff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0666440" y="9232920"/>
            <a:ext cx="3348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A313-923F-46F0-BFBD-F4231A6376A9}" type="slidenum">
              <a:rPr b="0" lang="en-US" sz="16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5403960" y="2543040"/>
            <a:ext cx="7595640" cy="7191360"/>
            <a:chOff x="5403960" y="2543040"/>
            <a:chExt cx="7595640" cy="7191360"/>
          </a:xfrm>
        </p:grpSpPr>
        <p:sp>
          <p:nvSpPr>
            <p:cNvPr id="196" name=""/>
            <p:cNvSpPr/>
            <p:nvPr/>
          </p:nvSpPr>
          <p:spPr>
            <a:xfrm>
              <a:off x="9548640" y="3079440"/>
              <a:ext cx="444240" cy="230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704160" y="2673360"/>
              <a:ext cx="105840" cy="106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20000">
              <a:off x="11764800" y="3365280"/>
              <a:ext cx="13680" cy="4681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994760" y="7918200"/>
              <a:ext cx="149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20000">
              <a:off x="12404520" y="3461760"/>
              <a:ext cx="14040" cy="451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20700000">
              <a:off x="12723480" y="3433320"/>
              <a:ext cx="14040" cy="19890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20460000">
              <a:off x="7770600" y="4097160"/>
              <a:ext cx="12240" cy="45910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1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139400">
              <a:off x="6238440" y="4103280"/>
              <a:ext cx="13680" cy="4784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39400">
              <a:off x="6840360" y="4220640"/>
              <a:ext cx="13680" cy="430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6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045360" y="6818040"/>
              <a:ext cx="140616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" y="2492"/>
                  </a:moveTo>
                  <a:lnTo>
                    <a:pt x="5617" y="4985"/>
                  </a:lnTo>
                  <a:lnTo>
                    <a:pt x="8702" y="4985"/>
                  </a:lnTo>
                  <a:lnTo>
                    <a:pt x="12274" y="4154"/>
                  </a:lnTo>
                  <a:lnTo>
                    <a:pt x="16399" y="2492"/>
                  </a:lnTo>
                  <a:lnTo>
                    <a:pt x="21184" y="0"/>
                  </a:lnTo>
                  <a:lnTo>
                    <a:pt x="21600" y="15785"/>
                  </a:lnTo>
                  <a:lnTo>
                    <a:pt x="17231" y="19108"/>
                  </a:lnTo>
                  <a:lnTo>
                    <a:pt x="14354" y="20769"/>
                  </a:lnTo>
                  <a:lnTo>
                    <a:pt x="11025" y="21600"/>
                  </a:lnTo>
                  <a:lnTo>
                    <a:pt x="7454" y="21600"/>
                  </a:lnTo>
                  <a:lnTo>
                    <a:pt x="3744" y="20769"/>
                  </a:lnTo>
                  <a:lnTo>
                    <a:pt x="0" y="18277"/>
                  </a:lnTo>
                  <a:lnTo>
                    <a:pt x="208" y="2492"/>
                  </a:lnTo>
                  <a:lnTo>
                    <a:pt x="208" y="2492"/>
                  </a:lnTo>
                  <a:close/>
                  <a:moveTo>
                    <a:pt x="208" y="2492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748880" y="8105760"/>
              <a:ext cx="22489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01" y="1029"/>
                  </a:moveTo>
                  <a:lnTo>
                    <a:pt x="14182" y="1029"/>
                  </a:lnTo>
                  <a:lnTo>
                    <a:pt x="12247" y="1029"/>
                  </a:lnTo>
                  <a:lnTo>
                    <a:pt x="10419" y="1029"/>
                  </a:lnTo>
                  <a:lnTo>
                    <a:pt x="8723" y="1029"/>
                  </a:lnTo>
                  <a:lnTo>
                    <a:pt x="7287" y="0"/>
                  </a:lnTo>
                  <a:lnTo>
                    <a:pt x="6004" y="0"/>
                  </a:lnTo>
                  <a:lnTo>
                    <a:pt x="4829" y="0"/>
                  </a:lnTo>
                  <a:lnTo>
                    <a:pt x="3915" y="1029"/>
                  </a:lnTo>
                  <a:lnTo>
                    <a:pt x="3002" y="1029"/>
                  </a:lnTo>
                  <a:lnTo>
                    <a:pt x="2349" y="1029"/>
                  </a:lnTo>
                  <a:lnTo>
                    <a:pt x="1175" y="1029"/>
                  </a:lnTo>
                  <a:lnTo>
                    <a:pt x="522" y="2057"/>
                  </a:lnTo>
                  <a:lnTo>
                    <a:pt x="131" y="3086"/>
                  </a:lnTo>
                  <a:lnTo>
                    <a:pt x="0" y="4114"/>
                  </a:lnTo>
                  <a:lnTo>
                    <a:pt x="261" y="7200"/>
                  </a:lnTo>
                  <a:lnTo>
                    <a:pt x="392" y="8229"/>
                  </a:lnTo>
                  <a:lnTo>
                    <a:pt x="653" y="9257"/>
                  </a:lnTo>
                  <a:lnTo>
                    <a:pt x="1305" y="10286"/>
                  </a:lnTo>
                  <a:lnTo>
                    <a:pt x="1958" y="12343"/>
                  </a:lnTo>
                  <a:lnTo>
                    <a:pt x="3132" y="14400"/>
                  </a:lnTo>
                  <a:lnTo>
                    <a:pt x="4568" y="15429"/>
                  </a:lnTo>
                  <a:lnTo>
                    <a:pt x="6373" y="17486"/>
                  </a:lnTo>
                  <a:lnTo>
                    <a:pt x="8462" y="18514"/>
                  </a:lnTo>
                  <a:lnTo>
                    <a:pt x="10941" y="20571"/>
                  </a:lnTo>
                  <a:lnTo>
                    <a:pt x="13530" y="20571"/>
                  </a:lnTo>
                  <a:lnTo>
                    <a:pt x="16401" y="21600"/>
                  </a:lnTo>
                  <a:lnTo>
                    <a:pt x="18990" y="21600"/>
                  </a:lnTo>
                  <a:lnTo>
                    <a:pt x="21600" y="21600"/>
                  </a:lnTo>
                  <a:lnTo>
                    <a:pt x="21600" y="2057"/>
                  </a:lnTo>
                  <a:lnTo>
                    <a:pt x="19120" y="2057"/>
                  </a:lnTo>
                  <a:lnTo>
                    <a:pt x="16401" y="1029"/>
                  </a:lnTo>
                  <a:lnTo>
                    <a:pt x="16401" y="1029"/>
                  </a:lnTo>
                  <a:close/>
                  <a:moveTo>
                    <a:pt x="16401" y="1029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802520" y="8227800"/>
              <a:ext cx="2195280" cy="55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35" y="4761"/>
                  </a:lnTo>
                  <a:lnTo>
                    <a:pt x="1471" y="8464"/>
                  </a:lnTo>
                  <a:lnTo>
                    <a:pt x="2675" y="12078"/>
                  </a:lnTo>
                  <a:lnTo>
                    <a:pt x="4414" y="15252"/>
                  </a:lnTo>
                  <a:lnTo>
                    <a:pt x="6531" y="17897"/>
                  </a:lnTo>
                  <a:lnTo>
                    <a:pt x="7869" y="18955"/>
                  </a:lnTo>
                  <a:lnTo>
                    <a:pt x="9206" y="20013"/>
                  </a:lnTo>
                  <a:lnTo>
                    <a:pt x="10677" y="20542"/>
                  </a:lnTo>
                  <a:lnTo>
                    <a:pt x="12394" y="21071"/>
                  </a:lnTo>
                  <a:lnTo>
                    <a:pt x="14133" y="21600"/>
                  </a:lnTo>
                  <a:lnTo>
                    <a:pt x="16139" y="21600"/>
                  </a:lnTo>
                  <a:lnTo>
                    <a:pt x="19059" y="21600"/>
                  </a:lnTo>
                  <a:lnTo>
                    <a:pt x="21600" y="21071"/>
                  </a:lnTo>
                  <a:lnTo>
                    <a:pt x="21600" y="5290"/>
                  </a:lnTo>
                  <a:lnTo>
                    <a:pt x="15604" y="5290"/>
                  </a:lnTo>
                  <a:lnTo>
                    <a:pt x="11212" y="4761"/>
                  </a:lnTo>
                  <a:lnTo>
                    <a:pt x="7066" y="3703"/>
                  </a:lnTo>
                  <a:lnTo>
                    <a:pt x="3344" y="2116"/>
                  </a:lnTo>
                  <a:lnTo>
                    <a:pt x="1605" y="1058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843920" y="8105760"/>
              <a:ext cx="21556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99" y="0"/>
                  </a:moveTo>
                  <a:lnTo>
                    <a:pt x="13582" y="0"/>
                  </a:lnTo>
                  <a:lnTo>
                    <a:pt x="11697" y="0"/>
                  </a:lnTo>
                  <a:lnTo>
                    <a:pt x="9789" y="0"/>
                  </a:lnTo>
                  <a:lnTo>
                    <a:pt x="8290" y="0"/>
                  </a:lnTo>
                  <a:lnTo>
                    <a:pt x="6791" y="0"/>
                  </a:lnTo>
                  <a:lnTo>
                    <a:pt x="5565" y="0"/>
                  </a:lnTo>
                  <a:lnTo>
                    <a:pt x="4497" y="0"/>
                  </a:lnTo>
                  <a:lnTo>
                    <a:pt x="3679" y="0"/>
                  </a:lnTo>
                  <a:lnTo>
                    <a:pt x="2862" y="1440"/>
                  </a:lnTo>
                  <a:lnTo>
                    <a:pt x="2180" y="1440"/>
                  </a:lnTo>
                  <a:lnTo>
                    <a:pt x="1226" y="2880"/>
                  </a:lnTo>
                  <a:lnTo>
                    <a:pt x="681" y="2880"/>
                  </a:lnTo>
                  <a:lnTo>
                    <a:pt x="273" y="4320"/>
                  </a:lnTo>
                  <a:lnTo>
                    <a:pt x="136" y="4320"/>
                  </a:lnTo>
                  <a:lnTo>
                    <a:pt x="0" y="5760"/>
                  </a:lnTo>
                  <a:lnTo>
                    <a:pt x="136" y="7200"/>
                  </a:lnTo>
                  <a:lnTo>
                    <a:pt x="545" y="8640"/>
                  </a:lnTo>
                  <a:lnTo>
                    <a:pt x="1226" y="10080"/>
                  </a:lnTo>
                  <a:lnTo>
                    <a:pt x="2317" y="12960"/>
                  </a:lnTo>
                  <a:lnTo>
                    <a:pt x="3816" y="14400"/>
                  </a:lnTo>
                  <a:lnTo>
                    <a:pt x="5701" y="15840"/>
                  </a:lnTo>
                  <a:lnTo>
                    <a:pt x="7745" y="18720"/>
                  </a:lnTo>
                  <a:lnTo>
                    <a:pt x="10198" y="20160"/>
                  </a:lnTo>
                  <a:lnTo>
                    <a:pt x="12901" y="20160"/>
                  </a:lnTo>
                  <a:lnTo>
                    <a:pt x="15763" y="21600"/>
                  </a:lnTo>
                  <a:lnTo>
                    <a:pt x="18738" y="21600"/>
                  </a:lnTo>
                  <a:lnTo>
                    <a:pt x="21600" y="21600"/>
                  </a:lnTo>
                  <a:lnTo>
                    <a:pt x="21600" y="1440"/>
                  </a:lnTo>
                  <a:lnTo>
                    <a:pt x="18874" y="1440"/>
                  </a:lnTo>
                  <a:lnTo>
                    <a:pt x="17534" y="1440"/>
                  </a:lnTo>
                  <a:lnTo>
                    <a:pt x="15899" y="0"/>
                  </a:lnTo>
                  <a:lnTo>
                    <a:pt x="15899" y="0"/>
                  </a:lnTo>
                  <a:close/>
                  <a:moveTo>
                    <a:pt x="15899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03720" y="3476520"/>
              <a:ext cx="230040" cy="35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1672"/>
                  </a:lnTo>
                  <a:lnTo>
                    <a:pt x="6353" y="10034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97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03720" y="3813120"/>
              <a:ext cx="203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03720" y="39859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47280" y="2717640"/>
              <a:ext cx="23004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31"/>
                  </a:lnTo>
                  <a:lnTo>
                    <a:pt x="6353" y="9969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38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361680" y="3043080"/>
              <a:ext cx="1886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47280" y="32335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53680" y="7956360"/>
              <a:ext cx="1472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10120" y="2543040"/>
              <a:ext cx="5876640" cy="10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8" y="0"/>
                  </a:moveTo>
                  <a:lnTo>
                    <a:pt x="21600" y="3503"/>
                  </a:lnTo>
                  <a:lnTo>
                    <a:pt x="50" y="21600"/>
                  </a:lnTo>
                  <a:lnTo>
                    <a:pt x="0" y="19265"/>
                  </a:lnTo>
                  <a:lnTo>
                    <a:pt x="10200" y="4670"/>
                  </a:lnTo>
                  <a:lnTo>
                    <a:pt x="11250" y="3795"/>
                  </a:lnTo>
                  <a:lnTo>
                    <a:pt x="21458" y="0"/>
                  </a:lnTo>
                  <a:lnTo>
                    <a:pt x="21458" y="0"/>
                  </a:lnTo>
                  <a:close/>
                  <a:moveTo>
                    <a:pt x="21458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22920" y="8516880"/>
              <a:ext cx="188280" cy="214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529480" y="8735760"/>
              <a:ext cx="20268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21240" y="8735760"/>
              <a:ext cx="164520" cy="203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16280" y="8662680"/>
              <a:ext cx="3112920" cy="878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03960" y="8653320"/>
              <a:ext cx="3390480" cy="647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08360" y="8712000"/>
              <a:ext cx="3217680" cy="4968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48480" y="8550000"/>
              <a:ext cx="20268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239280" y="8132760"/>
              <a:ext cx="164880" cy="244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565920" y="4000320"/>
              <a:ext cx="390240" cy="5734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675720" y="3485880"/>
              <a:ext cx="171000" cy="546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524880" y="3933720"/>
              <a:ext cx="462960" cy="117360"/>
            </a:xfrm>
            <a:prstGeom prst="roundRect">
              <a:avLst>
                <a:gd name="adj" fmla="val 11718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720000" y="3449520"/>
              <a:ext cx="568080" cy="355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029" y="1151"/>
                  </a:lnTo>
                  <a:lnTo>
                    <a:pt x="1029" y="822"/>
                  </a:lnTo>
                  <a:lnTo>
                    <a:pt x="0" y="164"/>
                  </a:lnTo>
                  <a:lnTo>
                    <a:pt x="6171" y="0"/>
                  </a:lnTo>
                  <a:lnTo>
                    <a:pt x="6171" y="0"/>
                  </a:lnTo>
                  <a:lnTo>
                    <a:pt x="6686" y="658"/>
                  </a:lnTo>
                  <a:lnTo>
                    <a:pt x="7543" y="90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410400" y="3206520"/>
              <a:ext cx="71568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05" y="0"/>
                  </a:moveTo>
                  <a:lnTo>
                    <a:pt x="15516" y="939"/>
                  </a:lnTo>
                  <a:lnTo>
                    <a:pt x="18797" y="5635"/>
                  </a:lnTo>
                  <a:lnTo>
                    <a:pt x="20780" y="12209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752" y="12209"/>
                  </a:lnTo>
                  <a:lnTo>
                    <a:pt x="3213" y="5635"/>
                  </a:lnTo>
                  <a:lnTo>
                    <a:pt x="6494" y="939"/>
                  </a:lnTo>
                  <a:lnTo>
                    <a:pt x="11005" y="0"/>
                  </a:lnTo>
                  <a:lnTo>
                    <a:pt x="11005" y="0"/>
                  </a:lnTo>
                  <a:close/>
                  <a:moveTo>
                    <a:pt x="11005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Boyhood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9800" y="1625760"/>
            <a:ext cx="64771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Arial"/>
              </a:rPr>
              <a:t>Born: July 26, 356 B.C. in Pella, Macedo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Arial"/>
              </a:rPr>
              <a:t>Son of King Philip II of Macedon and Princess Olympi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hilip II was a great military leader and organizer and Olympias was passionate and hot-tempe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exander inherited the best qualities from both of his parents, which later prove to be assets to his legac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023240" y="1523880"/>
            <a:ext cx="5643360" cy="748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ctr">
            <a:noAutofit/>
          </a:bodyPr>
          <a:p>
            <a:pPr marL="95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Death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Arial"/>
              </a:rPr>
              <a:t>Died June 11th 323 BC. 32 years old. in the palace of Nebuchadnezzar II, in Babyl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Arial"/>
              </a:rPr>
              <a:t>Cause is unknow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exander was buried in a gold cask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BC1C-30EC-48B8-B6DB-EB5E731DF739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D0092-77AD-4213-ADD1-869253D5D0E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5403960" y="2543040"/>
            <a:ext cx="7595640" cy="7191360"/>
            <a:chOff x="5403960" y="2543040"/>
            <a:chExt cx="7595640" cy="7191360"/>
          </a:xfrm>
        </p:grpSpPr>
        <p:sp>
          <p:nvSpPr>
            <p:cNvPr id="234" name=""/>
            <p:cNvSpPr/>
            <p:nvPr/>
          </p:nvSpPr>
          <p:spPr>
            <a:xfrm>
              <a:off x="9548640" y="3079440"/>
              <a:ext cx="444240" cy="230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704160" y="2673360"/>
              <a:ext cx="105840" cy="106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020000">
              <a:off x="11764800" y="3365280"/>
              <a:ext cx="13680" cy="4681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994760" y="7918200"/>
              <a:ext cx="149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20000">
              <a:off x="12404520" y="3461760"/>
              <a:ext cx="14040" cy="451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20700000">
              <a:off x="12723480" y="3433320"/>
              <a:ext cx="14040" cy="19890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0460000">
              <a:off x="7770600" y="4097160"/>
              <a:ext cx="12240" cy="45910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1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139400">
              <a:off x="6238440" y="4103280"/>
              <a:ext cx="13680" cy="4784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39400">
              <a:off x="6840360" y="4220640"/>
              <a:ext cx="13680" cy="430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6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45360" y="6818040"/>
              <a:ext cx="140616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" y="2492"/>
                  </a:moveTo>
                  <a:lnTo>
                    <a:pt x="5617" y="4985"/>
                  </a:lnTo>
                  <a:lnTo>
                    <a:pt x="8702" y="4985"/>
                  </a:lnTo>
                  <a:lnTo>
                    <a:pt x="12274" y="4154"/>
                  </a:lnTo>
                  <a:lnTo>
                    <a:pt x="16399" y="2492"/>
                  </a:lnTo>
                  <a:lnTo>
                    <a:pt x="21184" y="0"/>
                  </a:lnTo>
                  <a:lnTo>
                    <a:pt x="21600" y="15785"/>
                  </a:lnTo>
                  <a:lnTo>
                    <a:pt x="17231" y="19108"/>
                  </a:lnTo>
                  <a:lnTo>
                    <a:pt x="14354" y="20769"/>
                  </a:lnTo>
                  <a:lnTo>
                    <a:pt x="11025" y="21600"/>
                  </a:lnTo>
                  <a:lnTo>
                    <a:pt x="7454" y="21600"/>
                  </a:lnTo>
                  <a:lnTo>
                    <a:pt x="3744" y="20769"/>
                  </a:lnTo>
                  <a:lnTo>
                    <a:pt x="0" y="18277"/>
                  </a:lnTo>
                  <a:lnTo>
                    <a:pt x="208" y="2492"/>
                  </a:lnTo>
                  <a:lnTo>
                    <a:pt x="208" y="2492"/>
                  </a:lnTo>
                  <a:close/>
                  <a:moveTo>
                    <a:pt x="208" y="2492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748880" y="8105760"/>
              <a:ext cx="22489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01" y="1029"/>
                  </a:moveTo>
                  <a:lnTo>
                    <a:pt x="14182" y="1029"/>
                  </a:lnTo>
                  <a:lnTo>
                    <a:pt x="12247" y="1029"/>
                  </a:lnTo>
                  <a:lnTo>
                    <a:pt x="10419" y="1029"/>
                  </a:lnTo>
                  <a:lnTo>
                    <a:pt x="8723" y="1029"/>
                  </a:lnTo>
                  <a:lnTo>
                    <a:pt x="7287" y="0"/>
                  </a:lnTo>
                  <a:lnTo>
                    <a:pt x="6004" y="0"/>
                  </a:lnTo>
                  <a:lnTo>
                    <a:pt x="4829" y="0"/>
                  </a:lnTo>
                  <a:lnTo>
                    <a:pt x="3915" y="1029"/>
                  </a:lnTo>
                  <a:lnTo>
                    <a:pt x="3002" y="1029"/>
                  </a:lnTo>
                  <a:lnTo>
                    <a:pt x="2349" y="1029"/>
                  </a:lnTo>
                  <a:lnTo>
                    <a:pt x="1175" y="1029"/>
                  </a:lnTo>
                  <a:lnTo>
                    <a:pt x="522" y="2057"/>
                  </a:lnTo>
                  <a:lnTo>
                    <a:pt x="131" y="3086"/>
                  </a:lnTo>
                  <a:lnTo>
                    <a:pt x="0" y="4114"/>
                  </a:lnTo>
                  <a:lnTo>
                    <a:pt x="261" y="7200"/>
                  </a:lnTo>
                  <a:lnTo>
                    <a:pt x="392" y="8229"/>
                  </a:lnTo>
                  <a:lnTo>
                    <a:pt x="653" y="9257"/>
                  </a:lnTo>
                  <a:lnTo>
                    <a:pt x="1305" y="10286"/>
                  </a:lnTo>
                  <a:lnTo>
                    <a:pt x="1958" y="12343"/>
                  </a:lnTo>
                  <a:lnTo>
                    <a:pt x="3132" y="14400"/>
                  </a:lnTo>
                  <a:lnTo>
                    <a:pt x="4568" y="15429"/>
                  </a:lnTo>
                  <a:lnTo>
                    <a:pt x="6373" y="17486"/>
                  </a:lnTo>
                  <a:lnTo>
                    <a:pt x="8462" y="18514"/>
                  </a:lnTo>
                  <a:lnTo>
                    <a:pt x="10941" y="20571"/>
                  </a:lnTo>
                  <a:lnTo>
                    <a:pt x="13530" y="20571"/>
                  </a:lnTo>
                  <a:lnTo>
                    <a:pt x="16401" y="21600"/>
                  </a:lnTo>
                  <a:lnTo>
                    <a:pt x="18990" y="21600"/>
                  </a:lnTo>
                  <a:lnTo>
                    <a:pt x="21600" y="21600"/>
                  </a:lnTo>
                  <a:lnTo>
                    <a:pt x="21600" y="2057"/>
                  </a:lnTo>
                  <a:lnTo>
                    <a:pt x="19120" y="2057"/>
                  </a:lnTo>
                  <a:lnTo>
                    <a:pt x="16401" y="1029"/>
                  </a:lnTo>
                  <a:lnTo>
                    <a:pt x="16401" y="1029"/>
                  </a:lnTo>
                  <a:close/>
                  <a:moveTo>
                    <a:pt x="16401" y="1029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802520" y="8227800"/>
              <a:ext cx="2195280" cy="55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35" y="4761"/>
                  </a:lnTo>
                  <a:lnTo>
                    <a:pt x="1471" y="8464"/>
                  </a:lnTo>
                  <a:lnTo>
                    <a:pt x="2675" y="12078"/>
                  </a:lnTo>
                  <a:lnTo>
                    <a:pt x="4414" y="15252"/>
                  </a:lnTo>
                  <a:lnTo>
                    <a:pt x="6531" y="17897"/>
                  </a:lnTo>
                  <a:lnTo>
                    <a:pt x="7869" y="18955"/>
                  </a:lnTo>
                  <a:lnTo>
                    <a:pt x="9206" y="20013"/>
                  </a:lnTo>
                  <a:lnTo>
                    <a:pt x="10677" y="20542"/>
                  </a:lnTo>
                  <a:lnTo>
                    <a:pt x="12394" y="21071"/>
                  </a:lnTo>
                  <a:lnTo>
                    <a:pt x="14133" y="21600"/>
                  </a:lnTo>
                  <a:lnTo>
                    <a:pt x="16139" y="21600"/>
                  </a:lnTo>
                  <a:lnTo>
                    <a:pt x="19059" y="21600"/>
                  </a:lnTo>
                  <a:lnTo>
                    <a:pt x="21600" y="21071"/>
                  </a:lnTo>
                  <a:lnTo>
                    <a:pt x="21600" y="5290"/>
                  </a:lnTo>
                  <a:lnTo>
                    <a:pt x="15604" y="5290"/>
                  </a:lnTo>
                  <a:lnTo>
                    <a:pt x="11212" y="4761"/>
                  </a:lnTo>
                  <a:lnTo>
                    <a:pt x="7066" y="3703"/>
                  </a:lnTo>
                  <a:lnTo>
                    <a:pt x="3344" y="2116"/>
                  </a:lnTo>
                  <a:lnTo>
                    <a:pt x="1605" y="1058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843920" y="8105760"/>
              <a:ext cx="21556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99" y="0"/>
                  </a:moveTo>
                  <a:lnTo>
                    <a:pt x="13582" y="0"/>
                  </a:lnTo>
                  <a:lnTo>
                    <a:pt x="11697" y="0"/>
                  </a:lnTo>
                  <a:lnTo>
                    <a:pt x="9789" y="0"/>
                  </a:lnTo>
                  <a:lnTo>
                    <a:pt x="8290" y="0"/>
                  </a:lnTo>
                  <a:lnTo>
                    <a:pt x="6791" y="0"/>
                  </a:lnTo>
                  <a:lnTo>
                    <a:pt x="5565" y="0"/>
                  </a:lnTo>
                  <a:lnTo>
                    <a:pt x="4497" y="0"/>
                  </a:lnTo>
                  <a:lnTo>
                    <a:pt x="3679" y="0"/>
                  </a:lnTo>
                  <a:lnTo>
                    <a:pt x="2862" y="1440"/>
                  </a:lnTo>
                  <a:lnTo>
                    <a:pt x="2180" y="1440"/>
                  </a:lnTo>
                  <a:lnTo>
                    <a:pt x="1226" y="2880"/>
                  </a:lnTo>
                  <a:lnTo>
                    <a:pt x="681" y="2880"/>
                  </a:lnTo>
                  <a:lnTo>
                    <a:pt x="273" y="4320"/>
                  </a:lnTo>
                  <a:lnTo>
                    <a:pt x="136" y="4320"/>
                  </a:lnTo>
                  <a:lnTo>
                    <a:pt x="0" y="5760"/>
                  </a:lnTo>
                  <a:lnTo>
                    <a:pt x="136" y="7200"/>
                  </a:lnTo>
                  <a:lnTo>
                    <a:pt x="545" y="8640"/>
                  </a:lnTo>
                  <a:lnTo>
                    <a:pt x="1226" y="10080"/>
                  </a:lnTo>
                  <a:lnTo>
                    <a:pt x="2317" y="12960"/>
                  </a:lnTo>
                  <a:lnTo>
                    <a:pt x="3816" y="14400"/>
                  </a:lnTo>
                  <a:lnTo>
                    <a:pt x="5701" y="15840"/>
                  </a:lnTo>
                  <a:lnTo>
                    <a:pt x="7745" y="18720"/>
                  </a:lnTo>
                  <a:lnTo>
                    <a:pt x="10198" y="20160"/>
                  </a:lnTo>
                  <a:lnTo>
                    <a:pt x="12901" y="20160"/>
                  </a:lnTo>
                  <a:lnTo>
                    <a:pt x="15763" y="21600"/>
                  </a:lnTo>
                  <a:lnTo>
                    <a:pt x="18738" y="21600"/>
                  </a:lnTo>
                  <a:lnTo>
                    <a:pt x="21600" y="21600"/>
                  </a:lnTo>
                  <a:lnTo>
                    <a:pt x="21600" y="1440"/>
                  </a:lnTo>
                  <a:lnTo>
                    <a:pt x="18874" y="1440"/>
                  </a:lnTo>
                  <a:lnTo>
                    <a:pt x="17534" y="1440"/>
                  </a:lnTo>
                  <a:lnTo>
                    <a:pt x="15899" y="0"/>
                  </a:lnTo>
                  <a:lnTo>
                    <a:pt x="15899" y="0"/>
                  </a:lnTo>
                  <a:close/>
                  <a:moveTo>
                    <a:pt x="15899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03720" y="3476520"/>
              <a:ext cx="230040" cy="35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1672"/>
                  </a:lnTo>
                  <a:lnTo>
                    <a:pt x="6353" y="10034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97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03720" y="3813120"/>
              <a:ext cx="203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03720" y="39859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347280" y="2717640"/>
              <a:ext cx="23004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31"/>
                  </a:lnTo>
                  <a:lnTo>
                    <a:pt x="6353" y="9969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38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361680" y="3043080"/>
              <a:ext cx="1886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347280" y="32335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253680" y="7956360"/>
              <a:ext cx="1472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10120" y="2543040"/>
              <a:ext cx="5876640" cy="10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8" y="0"/>
                  </a:moveTo>
                  <a:lnTo>
                    <a:pt x="21600" y="3503"/>
                  </a:lnTo>
                  <a:lnTo>
                    <a:pt x="50" y="21600"/>
                  </a:lnTo>
                  <a:lnTo>
                    <a:pt x="0" y="19265"/>
                  </a:lnTo>
                  <a:lnTo>
                    <a:pt x="10200" y="4670"/>
                  </a:lnTo>
                  <a:lnTo>
                    <a:pt x="11250" y="3795"/>
                  </a:lnTo>
                  <a:lnTo>
                    <a:pt x="21458" y="0"/>
                  </a:lnTo>
                  <a:lnTo>
                    <a:pt x="21458" y="0"/>
                  </a:lnTo>
                  <a:close/>
                  <a:moveTo>
                    <a:pt x="21458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2920" y="8516880"/>
              <a:ext cx="188280" cy="214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529480" y="8735760"/>
              <a:ext cx="20268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1240" y="8735760"/>
              <a:ext cx="164520" cy="203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16280" y="8662680"/>
              <a:ext cx="3112920" cy="878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03960" y="8653320"/>
              <a:ext cx="3390480" cy="647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08360" y="8712000"/>
              <a:ext cx="3217680" cy="4968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8480" y="8550000"/>
              <a:ext cx="20268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239280" y="8132760"/>
              <a:ext cx="164880" cy="244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565920" y="4000320"/>
              <a:ext cx="390240" cy="5734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9675720" y="3485880"/>
              <a:ext cx="171000" cy="546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524880" y="3933720"/>
              <a:ext cx="462960" cy="117360"/>
            </a:xfrm>
            <a:prstGeom prst="roundRect">
              <a:avLst>
                <a:gd name="adj" fmla="val 11718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720000" y="3449520"/>
              <a:ext cx="568080" cy="355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029" y="1151"/>
                  </a:lnTo>
                  <a:lnTo>
                    <a:pt x="1029" y="822"/>
                  </a:lnTo>
                  <a:lnTo>
                    <a:pt x="0" y="164"/>
                  </a:lnTo>
                  <a:lnTo>
                    <a:pt x="6171" y="0"/>
                  </a:lnTo>
                  <a:lnTo>
                    <a:pt x="6171" y="0"/>
                  </a:lnTo>
                  <a:lnTo>
                    <a:pt x="6686" y="658"/>
                  </a:lnTo>
                  <a:lnTo>
                    <a:pt x="7543" y="90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410400" y="3206520"/>
              <a:ext cx="71568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05" y="0"/>
                  </a:moveTo>
                  <a:lnTo>
                    <a:pt x="15516" y="939"/>
                  </a:lnTo>
                  <a:lnTo>
                    <a:pt x="18797" y="5635"/>
                  </a:lnTo>
                  <a:lnTo>
                    <a:pt x="20780" y="12209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752" y="12209"/>
                  </a:lnTo>
                  <a:lnTo>
                    <a:pt x="3213" y="5635"/>
                  </a:lnTo>
                  <a:lnTo>
                    <a:pt x="6494" y="939"/>
                  </a:lnTo>
                  <a:lnTo>
                    <a:pt x="11005" y="0"/>
                  </a:lnTo>
                  <a:lnTo>
                    <a:pt x="11005" y="0"/>
                  </a:lnTo>
                  <a:close/>
                  <a:moveTo>
                    <a:pt x="11005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47640" y="288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Youth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405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13: became student of Aristot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totle is considered one of the greatest minds in histo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was eager to lea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Aristotle inspired in him love for literature, sciences, philosophy, and s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was always interested in foreign policy and would meet with ambassadors from different countries that came to his father’s cou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128080" y="2273400"/>
            <a:ext cx="2641680" cy="3136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086600" y="5605560"/>
            <a:ext cx="4791240" cy="31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5403960" y="2543040"/>
            <a:ext cx="7595640" cy="7191360"/>
            <a:chOff x="5403960" y="2543040"/>
            <a:chExt cx="7595640" cy="7191360"/>
          </a:xfrm>
        </p:grpSpPr>
        <p:sp>
          <p:nvSpPr>
            <p:cNvPr id="273" name=""/>
            <p:cNvSpPr/>
            <p:nvPr/>
          </p:nvSpPr>
          <p:spPr>
            <a:xfrm>
              <a:off x="9548640" y="3079440"/>
              <a:ext cx="444240" cy="230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704160" y="2673360"/>
              <a:ext cx="105840" cy="106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20000">
              <a:off x="11764800" y="3365280"/>
              <a:ext cx="13680" cy="4681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994760" y="7918200"/>
              <a:ext cx="149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20000">
              <a:off x="12404520" y="3461760"/>
              <a:ext cx="14040" cy="451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20700000">
              <a:off x="12723480" y="3433320"/>
              <a:ext cx="14040" cy="19890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460000">
              <a:off x="7770600" y="4097160"/>
              <a:ext cx="12240" cy="45910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1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139400">
              <a:off x="6238440" y="4103280"/>
              <a:ext cx="13680" cy="4784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239400">
              <a:off x="6840360" y="4220640"/>
              <a:ext cx="13680" cy="430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6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045360" y="6818040"/>
              <a:ext cx="140616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" y="2492"/>
                  </a:moveTo>
                  <a:lnTo>
                    <a:pt x="5617" y="4985"/>
                  </a:lnTo>
                  <a:lnTo>
                    <a:pt x="8702" y="4985"/>
                  </a:lnTo>
                  <a:lnTo>
                    <a:pt x="12274" y="4154"/>
                  </a:lnTo>
                  <a:lnTo>
                    <a:pt x="16399" y="2492"/>
                  </a:lnTo>
                  <a:lnTo>
                    <a:pt x="21184" y="0"/>
                  </a:lnTo>
                  <a:lnTo>
                    <a:pt x="21600" y="15785"/>
                  </a:lnTo>
                  <a:lnTo>
                    <a:pt x="17231" y="19108"/>
                  </a:lnTo>
                  <a:lnTo>
                    <a:pt x="14354" y="20769"/>
                  </a:lnTo>
                  <a:lnTo>
                    <a:pt x="11025" y="21600"/>
                  </a:lnTo>
                  <a:lnTo>
                    <a:pt x="7454" y="21600"/>
                  </a:lnTo>
                  <a:lnTo>
                    <a:pt x="3744" y="20769"/>
                  </a:lnTo>
                  <a:lnTo>
                    <a:pt x="0" y="18277"/>
                  </a:lnTo>
                  <a:lnTo>
                    <a:pt x="208" y="2492"/>
                  </a:lnTo>
                  <a:lnTo>
                    <a:pt x="208" y="2492"/>
                  </a:lnTo>
                  <a:close/>
                  <a:moveTo>
                    <a:pt x="208" y="2492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0748880" y="8105760"/>
              <a:ext cx="22489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01" y="1029"/>
                  </a:moveTo>
                  <a:lnTo>
                    <a:pt x="14182" y="1029"/>
                  </a:lnTo>
                  <a:lnTo>
                    <a:pt x="12247" y="1029"/>
                  </a:lnTo>
                  <a:lnTo>
                    <a:pt x="10419" y="1029"/>
                  </a:lnTo>
                  <a:lnTo>
                    <a:pt x="8723" y="1029"/>
                  </a:lnTo>
                  <a:lnTo>
                    <a:pt x="7287" y="0"/>
                  </a:lnTo>
                  <a:lnTo>
                    <a:pt x="6004" y="0"/>
                  </a:lnTo>
                  <a:lnTo>
                    <a:pt x="4829" y="0"/>
                  </a:lnTo>
                  <a:lnTo>
                    <a:pt x="3915" y="1029"/>
                  </a:lnTo>
                  <a:lnTo>
                    <a:pt x="3002" y="1029"/>
                  </a:lnTo>
                  <a:lnTo>
                    <a:pt x="2349" y="1029"/>
                  </a:lnTo>
                  <a:lnTo>
                    <a:pt x="1175" y="1029"/>
                  </a:lnTo>
                  <a:lnTo>
                    <a:pt x="522" y="2057"/>
                  </a:lnTo>
                  <a:lnTo>
                    <a:pt x="131" y="3086"/>
                  </a:lnTo>
                  <a:lnTo>
                    <a:pt x="0" y="4114"/>
                  </a:lnTo>
                  <a:lnTo>
                    <a:pt x="261" y="7200"/>
                  </a:lnTo>
                  <a:lnTo>
                    <a:pt x="392" y="8229"/>
                  </a:lnTo>
                  <a:lnTo>
                    <a:pt x="653" y="9257"/>
                  </a:lnTo>
                  <a:lnTo>
                    <a:pt x="1305" y="10286"/>
                  </a:lnTo>
                  <a:lnTo>
                    <a:pt x="1958" y="12343"/>
                  </a:lnTo>
                  <a:lnTo>
                    <a:pt x="3132" y="14400"/>
                  </a:lnTo>
                  <a:lnTo>
                    <a:pt x="4568" y="15429"/>
                  </a:lnTo>
                  <a:lnTo>
                    <a:pt x="6373" y="17486"/>
                  </a:lnTo>
                  <a:lnTo>
                    <a:pt x="8462" y="18514"/>
                  </a:lnTo>
                  <a:lnTo>
                    <a:pt x="10941" y="20571"/>
                  </a:lnTo>
                  <a:lnTo>
                    <a:pt x="13530" y="20571"/>
                  </a:lnTo>
                  <a:lnTo>
                    <a:pt x="16401" y="21600"/>
                  </a:lnTo>
                  <a:lnTo>
                    <a:pt x="18990" y="21600"/>
                  </a:lnTo>
                  <a:lnTo>
                    <a:pt x="21600" y="21600"/>
                  </a:lnTo>
                  <a:lnTo>
                    <a:pt x="21600" y="2057"/>
                  </a:lnTo>
                  <a:lnTo>
                    <a:pt x="19120" y="2057"/>
                  </a:lnTo>
                  <a:lnTo>
                    <a:pt x="16401" y="1029"/>
                  </a:lnTo>
                  <a:lnTo>
                    <a:pt x="16401" y="1029"/>
                  </a:lnTo>
                  <a:close/>
                  <a:moveTo>
                    <a:pt x="16401" y="1029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802520" y="8227800"/>
              <a:ext cx="2195280" cy="55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35" y="4761"/>
                  </a:lnTo>
                  <a:lnTo>
                    <a:pt x="1471" y="8464"/>
                  </a:lnTo>
                  <a:lnTo>
                    <a:pt x="2675" y="12078"/>
                  </a:lnTo>
                  <a:lnTo>
                    <a:pt x="4414" y="15252"/>
                  </a:lnTo>
                  <a:lnTo>
                    <a:pt x="6531" y="17897"/>
                  </a:lnTo>
                  <a:lnTo>
                    <a:pt x="7869" y="18955"/>
                  </a:lnTo>
                  <a:lnTo>
                    <a:pt x="9206" y="20013"/>
                  </a:lnTo>
                  <a:lnTo>
                    <a:pt x="10677" y="20542"/>
                  </a:lnTo>
                  <a:lnTo>
                    <a:pt x="12394" y="21071"/>
                  </a:lnTo>
                  <a:lnTo>
                    <a:pt x="14133" y="21600"/>
                  </a:lnTo>
                  <a:lnTo>
                    <a:pt x="16139" y="21600"/>
                  </a:lnTo>
                  <a:lnTo>
                    <a:pt x="19059" y="21600"/>
                  </a:lnTo>
                  <a:lnTo>
                    <a:pt x="21600" y="21071"/>
                  </a:lnTo>
                  <a:lnTo>
                    <a:pt x="21600" y="5290"/>
                  </a:lnTo>
                  <a:lnTo>
                    <a:pt x="15604" y="5290"/>
                  </a:lnTo>
                  <a:lnTo>
                    <a:pt x="11212" y="4761"/>
                  </a:lnTo>
                  <a:lnTo>
                    <a:pt x="7066" y="3703"/>
                  </a:lnTo>
                  <a:lnTo>
                    <a:pt x="3344" y="2116"/>
                  </a:lnTo>
                  <a:lnTo>
                    <a:pt x="1605" y="1058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843920" y="8105760"/>
              <a:ext cx="21556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99" y="0"/>
                  </a:moveTo>
                  <a:lnTo>
                    <a:pt x="13582" y="0"/>
                  </a:lnTo>
                  <a:lnTo>
                    <a:pt x="11697" y="0"/>
                  </a:lnTo>
                  <a:lnTo>
                    <a:pt x="9789" y="0"/>
                  </a:lnTo>
                  <a:lnTo>
                    <a:pt x="8290" y="0"/>
                  </a:lnTo>
                  <a:lnTo>
                    <a:pt x="6791" y="0"/>
                  </a:lnTo>
                  <a:lnTo>
                    <a:pt x="5565" y="0"/>
                  </a:lnTo>
                  <a:lnTo>
                    <a:pt x="4497" y="0"/>
                  </a:lnTo>
                  <a:lnTo>
                    <a:pt x="3679" y="0"/>
                  </a:lnTo>
                  <a:lnTo>
                    <a:pt x="2862" y="1440"/>
                  </a:lnTo>
                  <a:lnTo>
                    <a:pt x="2180" y="1440"/>
                  </a:lnTo>
                  <a:lnTo>
                    <a:pt x="1226" y="2880"/>
                  </a:lnTo>
                  <a:lnTo>
                    <a:pt x="681" y="2880"/>
                  </a:lnTo>
                  <a:lnTo>
                    <a:pt x="273" y="4320"/>
                  </a:lnTo>
                  <a:lnTo>
                    <a:pt x="136" y="4320"/>
                  </a:lnTo>
                  <a:lnTo>
                    <a:pt x="0" y="5760"/>
                  </a:lnTo>
                  <a:lnTo>
                    <a:pt x="136" y="7200"/>
                  </a:lnTo>
                  <a:lnTo>
                    <a:pt x="545" y="8640"/>
                  </a:lnTo>
                  <a:lnTo>
                    <a:pt x="1226" y="10080"/>
                  </a:lnTo>
                  <a:lnTo>
                    <a:pt x="2317" y="12960"/>
                  </a:lnTo>
                  <a:lnTo>
                    <a:pt x="3816" y="14400"/>
                  </a:lnTo>
                  <a:lnTo>
                    <a:pt x="5701" y="15840"/>
                  </a:lnTo>
                  <a:lnTo>
                    <a:pt x="7745" y="18720"/>
                  </a:lnTo>
                  <a:lnTo>
                    <a:pt x="10198" y="20160"/>
                  </a:lnTo>
                  <a:lnTo>
                    <a:pt x="12901" y="20160"/>
                  </a:lnTo>
                  <a:lnTo>
                    <a:pt x="15763" y="21600"/>
                  </a:lnTo>
                  <a:lnTo>
                    <a:pt x="18738" y="21600"/>
                  </a:lnTo>
                  <a:lnTo>
                    <a:pt x="21600" y="21600"/>
                  </a:lnTo>
                  <a:lnTo>
                    <a:pt x="21600" y="1440"/>
                  </a:lnTo>
                  <a:lnTo>
                    <a:pt x="18874" y="1440"/>
                  </a:lnTo>
                  <a:lnTo>
                    <a:pt x="17534" y="1440"/>
                  </a:lnTo>
                  <a:lnTo>
                    <a:pt x="15899" y="0"/>
                  </a:lnTo>
                  <a:lnTo>
                    <a:pt x="15899" y="0"/>
                  </a:lnTo>
                  <a:close/>
                  <a:moveTo>
                    <a:pt x="15899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03720" y="3476520"/>
              <a:ext cx="230040" cy="35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1672"/>
                  </a:lnTo>
                  <a:lnTo>
                    <a:pt x="6353" y="10034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97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03720" y="3813120"/>
              <a:ext cx="203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03720" y="39859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47280" y="2717640"/>
              <a:ext cx="23004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31"/>
                  </a:lnTo>
                  <a:lnTo>
                    <a:pt x="6353" y="9969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38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61680" y="3043080"/>
              <a:ext cx="1886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47280" y="32335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253680" y="7956360"/>
              <a:ext cx="1472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810120" y="2543040"/>
              <a:ext cx="5876640" cy="10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8" y="0"/>
                  </a:moveTo>
                  <a:lnTo>
                    <a:pt x="21600" y="3503"/>
                  </a:lnTo>
                  <a:lnTo>
                    <a:pt x="50" y="21600"/>
                  </a:lnTo>
                  <a:lnTo>
                    <a:pt x="0" y="19265"/>
                  </a:lnTo>
                  <a:lnTo>
                    <a:pt x="10200" y="4670"/>
                  </a:lnTo>
                  <a:lnTo>
                    <a:pt x="11250" y="3795"/>
                  </a:lnTo>
                  <a:lnTo>
                    <a:pt x="21458" y="0"/>
                  </a:lnTo>
                  <a:lnTo>
                    <a:pt x="21458" y="0"/>
                  </a:lnTo>
                  <a:close/>
                  <a:moveTo>
                    <a:pt x="21458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2920" y="8516880"/>
              <a:ext cx="188280" cy="214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29480" y="8735760"/>
              <a:ext cx="20268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21240" y="8735760"/>
              <a:ext cx="164520" cy="203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16280" y="8662680"/>
              <a:ext cx="3112920" cy="878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03960" y="8653320"/>
              <a:ext cx="3390480" cy="647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08360" y="8712000"/>
              <a:ext cx="3217680" cy="4968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448480" y="8550000"/>
              <a:ext cx="20268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239280" y="8132760"/>
              <a:ext cx="164880" cy="244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565920" y="4000320"/>
              <a:ext cx="390240" cy="5734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675720" y="3485880"/>
              <a:ext cx="171000" cy="546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524880" y="3933720"/>
              <a:ext cx="462960" cy="117360"/>
            </a:xfrm>
            <a:prstGeom prst="roundRect">
              <a:avLst>
                <a:gd name="adj" fmla="val 11718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720000" y="3449520"/>
              <a:ext cx="568080" cy="355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029" y="1151"/>
                  </a:lnTo>
                  <a:lnTo>
                    <a:pt x="1029" y="822"/>
                  </a:lnTo>
                  <a:lnTo>
                    <a:pt x="0" y="164"/>
                  </a:lnTo>
                  <a:lnTo>
                    <a:pt x="6171" y="0"/>
                  </a:lnTo>
                  <a:lnTo>
                    <a:pt x="6171" y="0"/>
                  </a:lnTo>
                  <a:lnTo>
                    <a:pt x="6686" y="658"/>
                  </a:lnTo>
                  <a:lnTo>
                    <a:pt x="7543" y="90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410400" y="3206520"/>
              <a:ext cx="71568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05" y="0"/>
                  </a:moveTo>
                  <a:lnTo>
                    <a:pt x="15516" y="939"/>
                  </a:lnTo>
                  <a:lnTo>
                    <a:pt x="18797" y="5635"/>
                  </a:lnTo>
                  <a:lnTo>
                    <a:pt x="20780" y="12209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752" y="12209"/>
                  </a:lnTo>
                  <a:lnTo>
                    <a:pt x="3213" y="5635"/>
                  </a:lnTo>
                  <a:lnTo>
                    <a:pt x="6494" y="939"/>
                  </a:lnTo>
                  <a:lnTo>
                    <a:pt x="11005" y="0"/>
                  </a:lnTo>
                  <a:lnTo>
                    <a:pt x="11005" y="0"/>
                  </a:lnTo>
                  <a:close/>
                  <a:moveTo>
                    <a:pt x="11005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Rise to Power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405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16: given command of Macedon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also acted as his father's ambassador to Athe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20: Became king of Maced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6705720" y="2612880"/>
            <a:ext cx="574020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640" y="193680"/>
            <a:ext cx="11709360" cy="21448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ctr">
            <a:noAutofit/>
          </a:bodyPr>
          <a:p>
            <a:pPr marL="954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Military Leader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Invades Persia and at Battle of The Granicus 334B.C. defeats an army of 11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He goes to Egypt and is called phara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77DE-568E-43C7-BC27-FAF00E3F4085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8652-0A7D-40A4-8DE4-39F787CAC2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5403960" y="2543040"/>
            <a:ext cx="7595640" cy="7191360"/>
            <a:chOff x="5403960" y="2543040"/>
            <a:chExt cx="7595640" cy="7191360"/>
          </a:xfrm>
        </p:grpSpPr>
        <p:sp>
          <p:nvSpPr>
            <p:cNvPr id="314" name=""/>
            <p:cNvSpPr/>
            <p:nvPr/>
          </p:nvSpPr>
          <p:spPr>
            <a:xfrm>
              <a:off x="9548640" y="3079440"/>
              <a:ext cx="444240" cy="230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704160" y="2673360"/>
              <a:ext cx="105840" cy="106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020000">
              <a:off x="11764800" y="3365280"/>
              <a:ext cx="13680" cy="4681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994760" y="7918200"/>
              <a:ext cx="149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20000">
              <a:off x="12404520" y="3461760"/>
              <a:ext cx="14040" cy="4511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20700000">
              <a:off x="12723480" y="3433320"/>
              <a:ext cx="14040" cy="198900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460000">
              <a:off x="7770600" y="4097160"/>
              <a:ext cx="12240" cy="459108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1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139400">
              <a:off x="6238440" y="4103280"/>
              <a:ext cx="13680" cy="4784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9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39400">
              <a:off x="6840360" y="4220640"/>
              <a:ext cx="13680" cy="430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6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45360" y="6818040"/>
              <a:ext cx="140616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8" y="2492"/>
                  </a:moveTo>
                  <a:lnTo>
                    <a:pt x="5617" y="4985"/>
                  </a:lnTo>
                  <a:lnTo>
                    <a:pt x="8702" y="4985"/>
                  </a:lnTo>
                  <a:lnTo>
                    <a:pt x="12274" y="4154"/>
                  </a:lnTo>
                  <a:lnTo>
                    <a:pt x="16399" y="2492"/>
                  </a:lnTo>
                  <a:lnTo>
                    <a:pt x="21184" y="0"/>
                  </a:lnTo>
                  <a:lnTo>
                    <a:pt x="21600" y="15785"/>
                  </a:lnTo>
                  <a:lnTo>
                    <a:pt x="17231" y="19108"/>
                  </a:lnTo>
                  <a:lnTo>
                    <a:pt x="14354" y="20769"/>
                  </a:lnTo>
                  <a:lnTo>
                    <a:pt x="11025" y="21600"/>
                  </a:lnTo>
                  <a:lnTo>
                    <a:pt x="7454" y="21600"/>
                  </a:lnTo>
                  <a:lnTo>
                    <a:pt x="3744" y="20769"/>
                  </a:lnTo>
                  <a:lnTo>
                    <a:pt x="0" y="18277"/>
                  </a:lnTo>
                  <a:lnTo>
                    <a:pt x="208" y="2492"/>
                  </a:lnTo>
                  <a:lnTo>
                    <a:pt x="208" y="2492"/>
                  </a:lnTo>
                  <a:close/>
                  <a:moveTo>
                    <a:pt x="208" y="2492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748880" y="8105760"/>
              <a:ext cx="2248920" cy="284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401" y="1029"/>
                  </a:moveTo>
                  <a:lnTo>
                    <a:pt x="14182" y="1029"/>
                  </a:lnTo>
                  <a:lnTo>
                    <a:pt x="12247" y="1029"/>
                  </a:lnTo>
                  <a:lnTo>
                    <a:pt x="10419" y="1029"/>
                  </a:lnTo>
                  <a:lnTo>
                    <a:pt x="8723" y="1029"/>
                  </a:lnTo>
                  <a:lnTo>
                    <a:pt x="7287" y="0"/>
                  </a:lnTo>
                  <a:lnTo>
                    <a:pt x="6004" y="0"/>
                  </a:lnTo>
                  <a:lnTo>
                    <a:pt x="4829" y="0"/>
                  </a:lnTo>
                  <a:lnTo>
                    <a:pt x="3915" y="1029"/>
                  </a:lnTo>
                  <a:lnTo>
                    <a:pt x="3002" y="1029"/>
                  </a:lnTo>
                  <a:lnTo>
                    <a:pt x="2349" y="1029"/>
                  </a:lnTo>
                  <a:lnTo>
                    <a:pt x="1175" y="1029"/>
                  </a:lnTo>
                  <a:lnTo>
                    <a:pt x="522" y="2057"/>
                  </a:lnTo>
                  <a:lnTo>
                    <a:pt x="131" y="3086"/>
                  </a:lnTo>
                  <a:lnTo>
                    <a:pt x="0" y="4114"/>
                  </a:lnTo>
                  <a:lnTo>
                    <a:pt x="261" y="7200"/>
                  </a:lnTo>
                  <a:lnTo>
                    <a:pt x="392" y="8229"/>
                  </a:lnTo>
                  <a:lnTo>
                    <a:pt x="653" y="9257"/>
                  </a:lnTo>
                  <a:lnTo>
                    <a:pt x="1305" y="10286"/>
                  </a:lnTo>
                  <a:lnTo>
                    <a:pt x="1958" y="12343"/>
                  </a:lnTo>
                  <a:lnTo>
                    <a:pt x="3132" y="14400"/>
                  </a:lnTo>
                  <a:lnTo>
                    <a:pt x="4568" y="15429"/>
                  </a:lnTo>
                  <a:lnTo>
                    <a:pt x="6373" y="17486"/>
                  </a:lnTo>
                  <a:lnTo>
                    <a:pt x="8462" y="18514"/>
                  </a:lnTo>
                  <a:lnTo>
                    <a:pt x="10941" y="20571"/>
                  </a:lnTo>
                  <a:lnTo>
                    <a:pt x="13530" y="20571"/>
                  </a:lnTo>
                  <a:lnTo>
                    <a:pt x="16401" y="21600"/>
                  </a:lnTo>
                  <a:lnTo>
                    <a:pt x="18990" y="21600"/>
                  </a:lnTo>
                  <a:lnTo>
                    <a:pt x="21600" y="21600"/>
                  </a:lnTo>
                  <a:lnTo>
                    <a:pt x="21600" y="2057"/>
                  </a:lnTo>
                  <a:lnTo>
                    <a:pt x="19120" y="2057"/>
                  </a:lnTo>
                  <a:lnTo>
                    <a:pt x="16401" y="1029"/>
                  </a:lnTo>
                  <a:lnTo>
                    <a:pt x="16401" y="1029"/>
                  </a:lnTo>
                  <a:close/>
                  <a:moveTo>
                    <a:pt x="16401" y="1029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802520" y="8227800"/>
              <a:ext cx="2195280" cy="55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35" y="4761"/>
                  </a:lnTo>
                  <a:lnTo>
                    <a:pt x="1471" y="8464"/>
                  </a:lnTo>
                  <a:lnTo>
                    <a:pt x="2675" y="12078"/>
                  </a:lnTo>
                  <a:lnTo>
                    <a:pt x="4414" y="15252"/>
                  </a:lnTo>
                  <a:lnTo>
                    <a:pt x="6531" y="17897"/>
                  </a:lnTo>
                  <a:lnTo>
                    <a:pt x="7869" y="18955"/>
                  </a:lnTo>
                  <a:lnTo>
                    <a:pt x="9206" y="20013"/>
                  </a:lnTo>
                  <a:lnTo>
                    <a:pt x="10677" y="20542"/>
                  </a:lnTo>
                  <a:lnTo>
                    <a:pt x="12394" y="21071"/>
                  </a:lnTo>
                  <a:lnTo>
                    <a:pt x="14133" y="21600"/>
                  </a:lnTo>
                  <a:lnTo>
                    <a:pt x="16139" y="21600"/>
                  </a:lnTo>
                  <a:lnTo>
                    <a:pt x="19059" y="21600"/>
                  </a:lnTo>
                  <a:lnTo>
                    <a:pt x="21600" y="21071"/>
                  </a:lnTo>
                  <a:lnTo>
                    <a:pt x="21600" y="5290"/>
                  </a:lnTo>
                  <a:lnTo>
                    <a:pt x="15604" y="5290"/>
                  </a:lnTo>
                  <a:lnTo>
                    <a:pt x="11212" y="4761"/>
                  </a:lnTo>
                  <a:lnTo>
                    <a:pt x="7066" y="3703"/>
                  </a:lnTo>
                  <a:lnTo>
                    <a:pt x="3344" y="2116"/>
                  </a:lnTo>
                  <a:lnTo>
                    <a:pt x="1605" y="1058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843920" y="8105760"/>
              <a:ext cx="2155680" cy="20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899" y="0"/>
                  </a:moveTo>
                  <a:lnTo>
                    <a:pt x="13582" y="0"/>
                  </a:lnTo>
                  <a:lnTo>
                    <a:pt x="11697" y="0"/>
                  </a:lnTo>
                  <a:lnTo>
                    <a:pt x="9789" y="0"/>
                  </a:lnTo>
                  <a:lnTo>
                    <a:pt x="8290" y="0"/>
                  </a:lnTo>
                  <a:lnTo>
                    <a:pt x="6791" y="0"/>
                  </a:lnTo>
                  <a:lnTo>
                    <a:pt x="5565" y="0"/>
                  </a:lnTo>
                  <a:lnTo>
                    <a:pt x="4497" y="0"/>
                  </a:lnTo>
                  <a:lnTo>
                    <a:pt x="3679" y="0"/>
                  </a:lnTo>
                  <a:lnTo>
                    <a:pt x="2862" y="1440"/>
                  </a:lnTo>
                  <a:lnTo>
                    <a:pt x="2180" y="1440"/>
                  </a:lnTo>
                  <a:lnTo>
                    <a:pt x="1226" y="2880"/>
                  </a:lnTo>
                  <a:lnTo>
                    <a:pt x="681" y="2880"/>
                  </a:lnTo>
                  <a:lnTo>
                    <a:pt x="273" y="4320"/>
                  </a:lnTo>
                  <a:lnTo>
                    <a:pt x="136" y="4320"/>
                  </a:lnTo>
                  <a:lnTo>
                    <a:pt x="0" y="5760"/>
                  </a:lnTo>
                  <a:lnTo>
                    <a:pt x="136" y="7200"/>
                  </a:lnTo>
                  <a:lnTo>
                    <a:pt x="545" y="8640"/>
                  </a:lnTo>
                  <a:lnTo>
                    <a:pt x="1226" y="10080"/>
                  </a:lnTo>
                  <a:lnTo>
                    <a:pt x="2317" y="12960"/>
                  </a:lnTo>
                  <a:lnTo>
                    <a:pt x="3816" y="14400"/>
                  </a:lnTo>
                  <a:lnTo>
                    <a:pt x="5701" y="15840"/>
                  </a:lnTo>
                  <a:lnTo>
                    <a:pt x="7745" y="18720"/>
                  </a:lnTo>
                  <a:lnTo>
                    <a:pt x="10198" y="20160"/>
                  </a:lnTo>
                  <a:lnTo>
                    <a:pt x="12901" y="20160"/>
                  </a:lnTo>
                  <a:lnTo>
                    <a:pt x="15763" y="21600"/>
                  </a:lnTo>
                  <a:lnTo>
                    <a:pt x="18738" y="21600"/>
                  </a:lnTo>
                  <a:lnTo>
                    <a:pt x="21600" y="21600"/>
                  </a:lnTo>
                  <a:lnTo>
                    <a:pt x="21600" y="1440"/>
                  </a:lnTo>
                  <a:lnTo>
                    <a:pt x="18874" y="1440"/>
                  </a:lnTo>
                  <a:lnTo>
                    <a:pt x="17534" y="1440"/>
                  </a:lnTo>
                  <a:lnTo>
                    <a:pt x="15899" y="0"/>
                  </a:lnTo>
                  <a:lnTo>
                    <a:pt x="15899" y="0"/>
                  </a:lnTo>
                  <a:close/>
                  <a:moveTo>
                    <a:pt x="15899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03720" y="3476520"/>
              <a:ext cx="230040" cy="350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1672"/>
                  </a:lnTo>
                  <a:lnTo>
                    <a:pt x="6353" y="10034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97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03720" y="3813120"/>
              <a:ext cx="2030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903720" y="39859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347280" y="2717640"/>
              <a:ext cx="230040" cy="35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0" y="831"/>
                  </a:lnTo>
                  <a:lnTo>
                    <a:pt x="6353" y="9969"/>
                  </a:lnTo>
                  <a:lnTo>
                    <a:pt x="6353" y="21600"/>
                  </a:lnTo>
                  <a:lnTo>
                    <a:pt x="15247" y="21600"/>
                  </a:lnTo>
                  <a:lnTo>
                    <a:pt x="15247" y="9138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361680" y="3043080"/>
              <a:ext cx="1886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347280" y="3233520"/>
              <a:ext cx="20304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253680" y="7956360"/>
              <a:ext cx="14724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810120" y="2543040"/>
              <a:ext cx="5876640" cy="100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58" y="0"/>
                  </a:moveTo>
                  <a:lnTo>
                    <a:pt x="21600" y="3503"/>
                  </a:lnTo>
                  <a:lnTo>
                    <a:pt x="50" y="21600"/>
                  </a:lnTo>
                  <a:lnTo>
                    <a:pt x="0" y="19265"/>
                  </a:lnTo>
                  <a:lnTo>
                    <a:pt x="10200" y="4670"/>
                  </a:lnTo>
                  <a:lnTo>
                    <a:pt x="11250" y="3795"/>
                  </a:lnTo>
                  <a:lnTo>
                    <a:pt x="21458" y="0"/>
                  </a:lnTo>
                  <a:lnTo>
                    <a:pt x="21458" y="0"/>
                  </a:lnTo>
                  <a:close/>
                  <a:moveTo>
                    <a:pt x="21458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22920" y="8516880"/>
              <a:ext cx="188280" cy="214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29480" y="8735760"/>
              <a:ext cx="202680" cy="243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21240" y="8735760"/>
              <a:ext cx="164520" cy="2034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16280" y="8662680"/>
              <a:ext cx="3112920" cy="8780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03960" y="8653320"/>
              <a:ext cx="3390480" cy="6476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08360" y="8712000"/>
              <a:ext cx="3217680" cy="4968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448480" y="8550000"/>
              <a:ext cx="202680" cy="216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239280" y="8132760"/>
              <a:ext cx="164880" cy="2444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565920" y="4000320"/>
              <a:ext cx="390240" cy="5734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675720" y="3485880"/>
              <a:ext cx="171000" cy="546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524880" y="3933720"/>
              <a:ext cx="462960" cy="117360"/>
            </a:xfrm>
            <a:prstGeom prst="roundRect">
              <a:avLst>
                <a:gd name="adj" fmla="val 11718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720000" y="3449520"/>
              <a:ext cx="568080" cy="355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1029" y="1151"/>
                  </a:lnTo>
                  <a:lnTo>
                    <a:pt x="1029" y="822"/>
                  </a:lnTo>
                  <a:lnTo>
                    <a:pt x="0" y="164"/>
                  </a:lnTo>
                  <a:lnTo>
                    <a:pt x="6171" y="0"/>
                  </a:lnTo>
                  <a:lnTo>
                    <a:pt x="6171" y="0"/>
                  </a:lnTo>
                  <a:lnTo>
                    <a:pt x="6686" y="658"/>
                  </a:lnTo>
                  <a:lnTo>
                    <a:pt x="7543" y="905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410400" y="3206520"/>
              <a:ext cx="715680" cy="311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005" y="0"/>
                  </a:moveTo>
                  <a:lnTo>
                    <a:pt x="15516" y="939"/>
                  </a:lnTo>
                  <a:lnTo>
                    <a:pt x="18797" y="5635"/>
                  </a:lnTo>
                  <a:lnTo>
                    <a:pt x="20780" y="12209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752" y="12209"/>
                  </a:lnTo>
                  <a:lnTo>
                    <a:pt x="3213" y="5635"/>
                  </a:lnTo>
                  <a:lnTo>
                    <a:pt x="6494" y="939"/>
                  </a:lnTo>
                  <a:lnTo>
                    <a:pt x="11005" y="0"/>
                  </a:lnTo>
                  <a:lnTo>
                    <a:pt x="11005" y="0"/>
                  </a:lnTo>
                  <a:close/>
                  <a:moveTo>
                    <a:pt x="11005" y="0"/>
                  </a:move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e2fad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93760" y="571320"/>
            <a:ext cx="11709360" cy="213516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Military Tactics</a:t>
            </a: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46120" y="1727280"/>
            <a:ext cx="57405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exander had a great military m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ert at organizing his units for complex battle maneuve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ing his true numbers and managing his army during the flow of battle. That was the ke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Developed the Phalan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Box form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8 to 36 men d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2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Men in front carried spears 12 to 18 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438960" y="3479760"/>
            <a:ext cx="6616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7640" y="288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ctr">
            <a:noAutofit/>
          </a:bodyPr>
          <a:p>
            <a:pPr marL="9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Times New Roman Bold Italic"/>
                <a:ea typeface="Times New Roman Bold Italic"/>
              </a:rPr>
              <a:t>Defeating Darius</a:t>
            </a:r>
            <a:br>
              <a:rPr sz="4800"/>
            </a:br>
            <a:r>
              <a:rPr b="0" lang="en-US" sz="4800" spc="-1" strike="noStrike">
                <a:solidFill>
                  <a:srgbClr val="003dcc"/>
                </a:solidFill>
                <a:latin typeface="Times New Roman Bold Italic"/>
                <a:ea typeface="Times New Roman Bold Italic"/>
              </a:rPr>
              <a:t>of Pers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100000"/>
              </a:lnSpc>
              <a:spcBef>
                <a:spcPts val="1100"/>
              </a:spcBef>
              <a:buSzPct val="17379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0b00"/>
                </a:solidFill>
                <a:latin typeface="Arial"/>
              </a:rPr>
              <a:t>#1:  Alexander beat persia, losing only 110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0b00"/>
                </a:solidFill>
                <a:latin typeface="Arial"/>
              </a:rPr>
              <a:t>#2:  Alexander won, Darius was forced to flee, leaving his mother, wife and children to Alexand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0531-8AD7-4456-A0DF-4370921670F5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FB73-8ED4-499B-BCF1-A22159409A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7640" y="232416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663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"/>
              </a:rPr>
              <a:t>√</a:t>
            </a: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#3: , Alexander beat Darius,in Mesopotamia…</a:t>
            </a:r>
            <a:r>
              <a:rPr b="0" lang="en-US" sz="5000" spc="-1" strike="noStrike">
                <a:solidFill>
                  <a:srgbClr val="ff2712"/>
                </a:solidFill>
                <a:latin typeface="Tahoma"/>
                <a:ea typeface="Tahoma"/>
              </a:rPr>
              <a:t> Alexander was called king of Persia and Darius’s royal city were burned to the ground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EFF4-0D70-47E9-B0D1-C8AD5A6FAEA1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A2D8-EB95-4667-957E-F312D3E5182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100000"/>
              </a:lnSpc>
              <a:spcBef>
                <a:spcPts val="1100"/>
              </a:spcBef>
              <a:buSzPct val="1532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Darius was killed by his own men,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100000"/>
              </a:lnSpc>
              <a:spcBef>
                <a:spcPts val="1100"/>
              </a:spcBef>
              <a:buSzPct val="1532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Alexander killed the men and gave Darius a royal funeral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B3FC-DCA7-4A56-ADED-041417687067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E2F9-43BA-475B-8B98-5DD7ABC7A9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ctr">
            <a:noAutofit/>
          </a:bodyPr>
          <a:p>
            <a:pPr marL="9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44fe"/>
                </a:solidFill>
                <a:latin typeface="Times New Roman Bold Italic"/>
                <a:ea typeface="Times New Roman Bold Italic"/>
              </a:rPr>
              <a:t>Legacy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-360" y="2260080"/>
            <a:ext cx="1235700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1440" tIns="50760" bIns="50760" anchor="t">
            <a:normAutofit/>
          </a:bodyPr>
          <a:p>
            <a:pPr marL="420840" indent="-343080">
              <a:lnSpc>
                <a:spcPct val="90000"/>
              </a:lnSpc>
              <a:spcBef>
                <a:spcPts val="1100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Arial"/>
              </a:rPr>
              <a:t>Made Babylonia the capital of Empir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20840" indent="-343080">
              <a:lnSpc>
                <a:spcPct val="90000"/>
              </a:lnSpc>
              <a:spcBef>
                <a:spcPts val="1100"/>
              </a:spcBef>
              <a:buSzPct val="1737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0b00"/>
                </a:solidFill>
                <a:latin typeface="Arial"/>
              </a:rPr>
              <a:t>He married one of Darius’ daughters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6484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A5CB-44E0-4CA5-A962-DAC588B431AB}" type="slidenum">
              <a:rPr b="0" lang="en-US" sz="1800" spc="-1" strike="noStrike">
                <a:solidFill>
                  <a:srgbClr val="0e2fa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B7BC-9C89-4A70-B864-B85C4177AC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